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0FD9-9021-4DF3-BB90-C87015A81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52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4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536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52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4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933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tewart0495565210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120000"/>
              </a:lnSpc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a2742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666880" y="1592280"/>
            <a:ext cx="647712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d963d"/>
                </a:solidFill>
                <a:latin typeface="Arial"/>
              </a:rPr>
              <a:t>College Algebra</a:t>
            </a:r>
            <a:endParaRPr b="0" lang="en-US" sz="66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fth Edition</a:t>
            </a:r>
            <a:endParaRPr b="0" lang="en-US" sz="28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James Stewart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Lothar Redlin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Saleem Watson</a:t>
            </a:r>
            <a:endParaRPr b="0" lang="en-US" sz="18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Pay special attention to Rules 3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4.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ever, Rule 4 says that, if we multiply ea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if we start with the inequality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&lt; 5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d multiply by 2, we get: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 &lt; 1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However, if we multiply by –2,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get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–6 &gt; –10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8571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An inequality is linear if: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Each term is constant or a multiple 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variable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To solve a linear inequality, w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isolate the variable on one sid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inequality sign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9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+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4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sketch the solution set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9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–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4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(–1/6)(–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) &gt; (–1/6)(4)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Multiply by –1/6 or 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divide by –6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gt; –2/3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number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greater than –2/3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In other words, the solution of </a:t>
            </a:r>
            <a:br>
              <a:rPr sz="3800"/>
            </a:b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the inequality is the interval (–2/3, 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995560" y="4033800"/>
            <a:ext cx="5962680" cy="26290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ie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at satisfy both of the inequalitie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&lt; 13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Rules 1 and 3, we see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se inequalities are equivalent: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6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1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Add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2 ≤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Divide by 3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refore, the solution set i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[2, 5)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95480" y="4167360"/>
            <a:ext cx="6034320" cy="24811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20574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94a37"/>
                </a:solidFill>
                <a:latin typeface="Arial"/>
              </a:rPr>
              <a:t>Equations and Inequalities</a:t>
            </a:r>
            <a:endParaRPr b="0" lang="en-US" sz="7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988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d963d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The Sign of a Product or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5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to solve the inequality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–6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first move all the terms to the left-hand side and factor to get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(x – 2)(x – 3)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form of the inequality says that the product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3) must be negative or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is because the sign of a product depends on the sign of th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e details are explained in Example 3, in which we use the following guideline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Example 3 illustrates the following guidelines for solving an inequality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an be factored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1176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ove all terms to one sid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actor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nd the intervals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ake a table or diagram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Solv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1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ove all terms to one side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necessary, rewrite the inequality so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ppear on one side of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inequality sign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2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8120" y="7952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Factor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Factor the nonzero side of the inequality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3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Find the intervals.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values for which each factor is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will divide the real line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List the intervals determined by these number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4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ake a table or diagram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se test values to make a table or diagra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signs of each factor on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 last row of the table, determine the sign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product (or quotient) of thes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14240" y="35809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90720" y="356544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963d"/>
                </a:solidFill>
                <a:latin typeface="Arial"/>
              </a:rPr>
              <a:t>1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5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920" y="8096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Solve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solution of the inequality fro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last row of the sign tabl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is may happen if the inequality involves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inequality is not written in this form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 rewrite it—as indicated in Step 1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5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–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5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6 ≤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2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2 and 3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s shown, the numbers 2 and 3 divide the real line into three interval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-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, 2)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, (2, 3), (3,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s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2 and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change sign only at 2 and 3, respectively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they maintain their signs over the length of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On each interval, we determine the signs of the factors using test values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choose a number inside each interval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nd check the sign of the factor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t the value select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For instance, let’s use the test value </a:t>
            </a:r>
            <a:br>
              <a:rPr sz="3800"/>
            </a:br>
            <a:r>
              <a:rPr b="0" i="1" lang="en-US" sz="3800" spc="-1" strike="noStrike">
                <a:solidFill>
                  <a:srgbClr val="61271d"/>
                </a:solidFill>
                <a:latin typeface="Arial"/>
              </a:rPr>
              <a:t>x =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 1 for the interval (-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, 2)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3124080" y="4038480"/>
            <a:ext cx="5810040" cy="2631960"/>
            <a:chOff x="3124080" y="4038480"/>
            <a:chExt cx="5810040" cy="2631960"/>
          </a:xfrm>
        </p:grpSpPr>
        <p:pic>
          <p:nvPicPr>
            <p:cNvPr id="127" name="Picture 6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040" cy="263196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28" name="Rectangle 7"/>
            <p:cNvSpPr/>
            <p:nvPr/>
          </p:nvSpPr>
          <p:spPr>
            <a:xfrm>
              <a:off x="5253840" y="4141800"/>
              <a:ext cx="3659760" cy="12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Then, substitution in the factors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2 </a:t>
            </a:r>
            <a:br>
              <a:rPr sz="3000"/>
            </a:b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3 gives: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2 = 1 – 2 = –1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3 = 1 – 3 = –2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So, both factors are negative on this interval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Notice that we need to check only one test value for each interval because the factors </a:t>
            </a: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2 and</a:t>
            </a:r>
            <a:br>
              <a:rPr sz="2200"/>
            </a:b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3 do not change sign on any of the three intervals we found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the test values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2½ and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=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for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tervals (2, 3) and (3,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, respectively,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construct the following sign table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124080" y="4038480"/>
            <a:ext cx="5810400" cy="2632320"/>
            <a:chOff x="3124080" y="4038480"/>
            <a:chExt cx="5810400" cy="263232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400" cy="263232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3200400" y="4141800"/>
              <a:ext cx="19810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me problems in algebra lead to inequalities instead of equation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 inequality looks just like an equation—except that, in the place of the equal sign 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s one of these symbols: &lt;, &gt;,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ere is an example: 4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 19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inal row is obtained from the fac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at the expression in the last row i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product of the two factors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8244000" cy="3033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f you prefer, you can represent that information on a real number line—a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n this sign diagram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vertical lines indicate the points at whi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real line is divided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712800" y="4403880"/>
            <a:ext cx="8238960" cy="19922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read from the table or the diagram tha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) is negative on the interval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(2, 3)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2666880" y="2614680"/>
            <a:ext cx="6270840" cy="1515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666880" y="4325760"/>
            <a:ext cx="6262920" cy="23036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solution of the inequality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3)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0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i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{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| 2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 ≤ 3} = [2, 3]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have included the endpoints 2 and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cause we seek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uch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product is either less than or equal to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943360" y="3672000"/>
            <a:ext cx="5991120" cy="25048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x &gt; 1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x – 1 &gt;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+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+ 1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–1/2 and 1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–1/2), (–1/2, 1), (1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7" name="Picture 5" descr="SRW CA5 ch01_Page_52a"/>
          <p:cNvPicPr/>
          <p:nvPr/>
        </p:nvPicPr>
        <p:blipFill>
          <a:blip r:embed="rId1"/>
          <a:stretch/>
        </p:blipFill>
        <p:spPr>
          <a:xfrm>
            <a:off x="609480" y="4130640"/>
            <a:ext cx="8229600" cy="2238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2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+ 1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1) &gt; 0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–∞, –1/2) or (1, ∞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–∞, –1/2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∞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2" name="Picture 5" descr="SRW CA5 ch01_Page_52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914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table shows that some numbers satisfy the inequality and some numbers don’t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81320" y="3187800"/>
            <a:ext cx="4842000" cy="3504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re already on one side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so, the nonzero side of the inequality is already factor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 we begin by finding the intervals for this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= 0, 1, 3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0), (0, 1), (1, 3), (3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9" name="Picture 5" descr="SRW CA5 ch01_Page_53a"/>
          <p:cNvPicPr/>
          <p:nvPr/>
        </p:nvPicPr>
        <p:blipFill>
          <a:blip r:embed="rId1"/>
          <a:stretch/>
        </p:blipFill>
        <p:spPr>
          <a:xfrm>
            <a:off x="762120" y="4114800"/>
            <a:ext cx="7924680" cy="2241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0, 1) or (1, 3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0, 1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3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74" name="Picture 5" descr="SRW CA5 ch01_Page_53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730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Solve: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nonzero terms to the left sid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n, we simplify using a common denominator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76520" y="1300320"/>
          <a:ext cx="23623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1300320"/>
                    <a:ext cx="23623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596880" y="1014480"/>
          <a:ext cx="838044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014480"/>
                    <a:ext cx="838044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14400" y="1249200"/>
          <a:ext cx="67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49200"/>
                    <a:ext cx="67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536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 factors of the left-hand side are 2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and 1 –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are zero when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is 0 and 1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–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∞, 0), (0, 1), (1, ∞)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see that the solution set is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[0, 1)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031" t="0" r="0" b="2541"/>
          <a:stretch/>
        </p:blipFill>
        <p:spPr>
          <a:xfrm>
            <a:off x="723960" y="4586400"/>
            <a:ext cx="8267760" cy="19461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ways check the endpoints of solution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o determine whether they satisfy the original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nlike an equation, an inequality generally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as infinitely many solution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orm an interval or a union of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n the real line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1271d"/>
                </a:solidFill>
                <a:latin typeface="Arial"/>
              </a:rPr>
              <a:t>The solution set [0, 1) is illustrated here.</a:t>
            </a:r>
            <a:endParaRPr b="0" lang="en-US" sz="42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614680" y="3933720"/>
            <a:ext cx="6305400" cy="2657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Modeling real-life problems frequently leads to inequalities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 carnival has two plans for ticket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A:  $5 entrance fee and 25¢ each ride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B: $2 entrance fee and 50¢ each ride 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 many rides would you have to take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plan A to be less expensive than plan B? 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are asked for the number of ride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for which plan A is less expensive than plan B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, let: 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b94a37"/>
                </a:solidFill>
                <a:latin typeface="Arial"/>
              </a:rPr>
              <a:t>x =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number of rides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e information in the problem may be organized as follows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71800" y="2743200"/>
          <a:ext cx="5915160" cy="3900600"/>
        </p:xfrm>
        <a:graphic>
          <a:graphicData uri="http://schemas.openxmlformats.org/drawingml/2006/table">
            <a:tbl>
              <a:tblPr/>
              <a:tblGrid>
                <a:gridCol w="2957400"/>
                <a:gridCol w="29577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Word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Algeb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Number of r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5 + 0.25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2 + 0.50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6920" y="9525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Now, we set up the model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ost with plan A &lt; Cost with plan B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5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2 +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&lt;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0.25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12 &lt;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Divide by 0.25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if you plan to take more than 12 rides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plan A is less expensive.</a:t>
            </a:r>
            <a:endParaRPr b="0" lang="en-US" sz="2600" spc="-1" strike="noStrike">
              <a:solidFill>
                <a:srgbClr val="a2742a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371600" y="2209680"/>
            <a:ext cx="6705720" cy="685800"/>
          </a:xfrm>
          <a:prstGeom prst="rect">
            <a:avLst/>
          </a:prstGeom>
          <a:noFill/>
          <a:ln w="22320">
            <a:solidFill>
              <a:srgbClr val="cd9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structions on a box of film indicate that the box should be stored at a temperature between 5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 and 30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hat range of temperatures does this correspond to on the Fahrenheit scale?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relationship between degrees Celsius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and degrees Fahrenhei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is given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by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5/9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2)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Expressing the statement on the box in term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inequalities, we have: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5 &lt;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&lt; 3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So, the corresponding Fahrenheit temperatures satisfy the inequalities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4520" y="2576520"/>
          <a:ext cx="716256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576520"/>
                    <a:ext cx="71625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ollowing illustration shows how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an inequality differs from its corresponding equation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504" t="0" r="0" b="7773"/>
          <a:stretch/>
        </p:blipFill>
        <p:spPr>
          <a:xfrm>
            <a:off x="722160" y="3828960"/>
            <a:ext cx="8186760" cy="15433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film should be stored at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 temperature between 41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 and 86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217" name="Picture 5" descr="SRW CA5 ch01_Page_55"/>
          <p:cNvPicPr/>
          <p:nvPr/>
        </p:nvPicPr>
        <p:blipFill>
          <a:blip r:embed="rId1"/>
          <a:stretch/>
        </p:blipFill>
        <p:spPr>
          <a:xfrm>
            <a:off x="5378400" y="2438280"/>
            <a:ext cx="3513240" cy="4114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o solve inequalities, we use the following rules to isolate the variable on one side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of the inequality sign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rules tell us when two inequalitie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re equivalent (      means “is equivalent to”)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se rules, the symbol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tand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real numbers or algebraic expression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651120" y="3933720"/>
          <a:ext cx="6066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1120" y="3933720"/>
                    <a:ext cx="606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Here, we state the rules for inequalities involving the symbol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However, they apply to all four inequality symbols. 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5800" y="2739960"/>
            <a:ext cx="8259840" cy="39513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34:24Z</dcterms:created>
  <dc:creator>aa</dc:creator>
  <dc:description/>
  <dc:language>en-US</dc:language>
  <cp:lastModifiedBy>LEGION</cp:lastModifiedBy>
  <dcterms:modified xsi:type="dcterms:W3CDTF">2017-07-06T06:31:18Z</dcterms:modified>
  <cp:revision>636</cp:revision>
  <dc:subject/>
  <dc:title>Slide 1</dc:title>
</cp:coreProperties>
</file>